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5438-5349-42AC-AD6B-214AD31BD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11280" y="3979800"/>
            <a:ext cx="792144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C0DA-0AF1-4B4C-965E-1110B0C5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1280" y="397980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7980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085C-8DAD-4CEA-9860-83E0630EB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9680" y="162864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440" y="162864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11280" y="397980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9680" y="397980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440" y="397980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26B5-8D55-4F0D-A780-462BF29E9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11280" y="1628640"/>
            <a:ext cx="792144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53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628640"/>
            <a:ext cx="38653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11280" y="367920"/>
            <a:ext cx="79214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628640"/>
            <a:ext cx="38653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11280" y="397980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11280" y="1628640"/>
            <a:ext cx="792144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DE34-6A59-43CD-8FAD-E66FFB65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53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397980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1280" y="3979800"/>
            <a:ext cx="792144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11280" y="3979800"/>
            <a:ext cx="792144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1280" y="397980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397980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89680" y="162864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8440" y="162864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11280" y="397980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89680" y="397980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8440" y="397980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B414-0549-4F69-9EA5-E11E6757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53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28640"/>
            <a:ext cx="38653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8E3C-29B7-44A0-8122-EB1AC93D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A8C9-DCC6-4186-9C83-93EF2B57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1280" y="367920"/>
            <a:ext cx="79214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B6CB-0186-4720-9A2B-61499617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28640"/>
            <a:ext cx="38653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11280" y="397980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A214-7A02-4BD7-8ED4-62B22591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53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7980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585C-343B-4015-A69B-703AD299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11280" y="3979800"/>
            <a:ext cx="792144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70CF-1877-4DD0-9B6A-6D20CE8B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89720"/>
            <a:ext cx="9360000" cy="558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11280" y="1628640"/>
            <a:ext cx="79214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41472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29440" indent="-376920">
              <a:spcBef>
                <a:spcPts val="275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44880" indent="-339480">
              <a:spcBef>
                <a:spcPts val="2750"/>
              </a:spcBef>
              <a:buClr>
                <a:srgbClr val="ffcc99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97400" indent="-339480">
              <a:spcBef>
                <a:spcPts val="27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112120" indent="-301680">
              <a:spcBef>
                <a:spcPts val="2750"/>
              </a:spcBef>
              <a:buClr>
                <a:srgbClr val="fffff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112120" indent="-301680">
              <a:spcBef>
                <a:spcPts val="2750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112120" indent="-301680">
              <a:spcBef>
                <a:spcPts val="2750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50560" y="6497280"/>
            <a:ext cx="2160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92360" y="6497280"/>
            <a:ext cx="5400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0000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172360" y="6497280"/>
            <a:ext cx="720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0000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49F2-11D1-4C26-8577-A32E1B53E888}" type="slidenum">
              <a:rPr b="1" lang="it-IT" sz="14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5589720"/>
            <a:ext cx="9325080" cy="1368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239400" cy="1989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640" y="1989000"/>
            <a:ext cx="72007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Aft>
                <a:spcPts val="10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 Unicode MS"/>
              </a:rPr>
              <a:t>Click to edit the title text format</a:t>
            </a:r>
            <a:endParaRPr b="0" lang="en-US" sz="4000" spc="-1" strike="noStrike">
              <a:solidFill>
                <a:srgbClr val="ffcc99"/>
              </a:solidFill>
              <a:latin typeface="Arial Unicode MS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754440" y="5800680"/>
            <a:ext cx="1633680" cy="868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99"/>
              </a:buClr>
              <a:buFont typeface="Wingdings" charset="2"/>
              <a:buChar char="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&gt;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989000"/>
            <a:ext cx="79246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Aft>
                <a:spcPts val="90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99"/>
                </a:solidFill>
                <a:latin typeface="Arial Unicode MS"/>
              </a:rPr>
              <a:t>Informatica per le Scienze Umane</a:t>
            </a:r>
            <a:br>
              <a:rPr sz="4000"/>
            </a:br>
            <a:r>
              <a:rPr b="0" i="1" lang="it-IT" sz="3600" spc="-1" strike="noStrike">
                <a:solidFill>
                  <a:srgbClr val="ffcc99"/>
                </a:solidFill>
                <a:latin typeface="Arial Unicode MS"/>
              </a:rPr>
              <a:t>laboratorio</a:t>
            </a:r>
            <a:endParaRPr b="0" lang="en-US" sz="36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Modelli dei dati per le Scienze Uman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Alessandro Lenci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Dipartimento di Linguistica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80755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Corpora testuali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3276720"/>
            <a:ext cx="8763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Testi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linguaggio scrit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ffcc99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libri (saggistica, narrativa, poesia, ecc.), giornali, riviste, pagine Web, lettere, ec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ffcc99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produzioni “effimere”: e-mail, inserzioni pubblicitarie, chat, volantini, ec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linguaggio parlato trascrit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ffcc99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notiziari radio-televisiv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ffcc99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intervis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ffcc99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conversazioni telefoniche, conversazioni faccia-a-faccia, ec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909800"/>
            <a:ext cx="861084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it-IT" sz="2200" spc="-1" strike="noStrike">
                <a:solidFill>
                  <a:srgbClr val="ff6600"/>
                </a:solidFill>
                <a:latin typeface="Arial"/>
              </a:rPr>
              <a:t>corpus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è una raccolta di testi selezionati e organizzati secondo espliciti criteri e scopi (analisi linguistica, studi letterari, ecc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Corpora elettronici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29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L’avvento dell’era informatica ha  rivoluzionato la natura, ruolo e uso dei corpor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Il computer permette di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6600"/>
                </a:solidFill>
                <a:latin typeface="Arial"/>
              </a:rPr>
              <a:t>immagazzinar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quantità di dati testuali prima inimmaginabi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6600"/>
                </a:solidFill>
                <a:latin typeface="Arial"/>
              </a:rPr>
              <a:t>interrogar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in maniera avanzata il contenuto del corpu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ompiere nuove forme di </a:t>
            </a:r>
            <a:r>
              <a:rPr b="0" lang="it-IT" sz="2000" spc="-1" strike="noStrike">
                <a:solidFill>
                  <a:srgbClr val="ff6600"/>
                </a:solidFill>
                <a:latin typeface="Arial"/>
              </a:rPr>
              <a:t>elaborazion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lang="it-IT" sz="2000" spc="-1" strike="noStrike">
                <a:solidFill>
                  <a:srgbClr val="ff6600"/>
                </a:solidFill>
                <a:latin typeface="Arial"/>
              </a:rPr>
              <a:t>computazion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sui dati linguisti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2120" y="4800600"/>
            <a:ext cx="7696080" cy="79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corpus = corpus elettron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testi sono in formato digitale (</a:t>
            </a:r>
            <a:r>
              <a:rPr b="0" lang="it-IT" sz="2000" spc="-1" strike="noStrike">
                <a:solidFill>
                  <a:srgbClr val="ff6600"/>
                </a:solidFill>
                <a:latin typeface="Arial"/>
              </a:rPr>
              <a:t>machine-readabal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Testo non digitale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6477120" cy="288432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  <p:sp>
        <p:nvSpPr>
          <p:cNvPr id="211" name=""/>
          <p:cNvSpPr/>
          <p:nvPr/>
        </p:nvSpPr>
        <p:spPr>
          <a:xfrm>
            <a:off x="1219320" y="5943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tito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62320" y="5867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sottotito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91120" y="54100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paragraf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324480" y="5943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au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15000" y="54403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57400" y="54100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linguagg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00600" y="59436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argo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553080" y="5516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didasca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5410080"/>
            <a:ext cx="6629400" cy="990720"/>
          </a:xfrm>
          <a:prstGeom prst="rect">
            <a:avLst/>
          </a:pr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848720" y="5715000"/>
            <a:ext cx="1143000" cy="307080"/>
          </a:xfrm>
          <a:prstGeom prst="rect">
            <a:avLst/>
          </a:pr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metate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1752480" y="3200400"/>
            <a:ext cx="1219320" cy="274320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7238880" y="4876560"/>
            <a:ext cx="0" cy="53316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124080" y="3885840"/>
            <a:ext cx="1524240" cy="198108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1905120" y="4114800"/>
            <a:ext cx="4572000" cy="190512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800600" y="4343040"/>
            <a:ext cx="914400" cy="106668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29000" y="5715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punteggia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60958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aratte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10800000">
            <a:off x="6553080" y="1219320"/>
            <a:ext cx="1067040" cy="914400"/>
          </a:xfrm>
          <a:custGeom>
            <a:avLst/>
            <a:gdLst>
              <a:gd name="textAreaLeft" fmla="*/ 355680 w 1067040"/>
              <a:gd name="textAreaRight" fmla="*/ 914040 w 1067040"/>
              <a:gd name="textAreaTop" fmla="*/ 526680 h 914400"/>
              <a:gd name="textAreaBottom" fmla="*/ 783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5400000">
            <a:off x="6972120" y="3390840"/>
            <a:ext cx="2971800" cy="761760"/>
          </a:xfrm>
          <a:custGeom>
            <a:avLst/>
            <a:gdLst>
              <a:gd name="textAreaLeft" fmla="*/ 464400 w 2971800"/>
              <a:gd name="textAreaRight" fmla="*/ 2600640 w 29718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7669080" y="685800"/>
            <a:ext cx="147492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Testo machine</a:t>
            </a:r>
            <a:br>
              <a:rPr sz="3200"/>
            </a:b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readable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32" name=""/>
          <p:cNvSpPr/>
          <p:nvPr/>
        </p:nvSpPr>
        <p:spPr>
          <a:xfrm>
            <a:off x="1219320" y="2286000"/>
            <a:ext cx="6400800" cy="243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Courier New"/>
              </a:rPr>
              <a:t>Oggi a Bruxelles vertice della Ue sull'IRAQ. Blair scrive agli altri per chiedere una posizione com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Courier New"/>
              </a:rPr>
              <a:t>La NATO in difesa della Turch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Courier New"/>
              </a:rPr>
              <a:t>Accordo in extremis sull'aiuto all' alleato in prima lin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Courier New"/>
              </a:rPr>
              <a:t>D</a:t>
            </a:r>
            <a:r>
              <a:rPr b="1" lang="en-US" sz="1400" spc="-1" strike="noStrike">
                <a:solidFill>
                  <a:srgbClr val="000033"/>
                </a:solidFill>
                <a:latin typeface="Courier New"/>
              </a:rPr>
              <a:t>AL NOSTRO CORRISPONDENTE FRANCO PAPIT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Courier New"/>
              </a:rPr>
              <a:t>BRUXELLES — Tutti bloccati per una giornata intera dal piccolo Belgi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Courier New"/>
              </a:rPr>
              <a:t>Sembrava disponibile la</a:t>
            </a:r>
            <a:r>
              <a:rPr b="1" lang="it-IT" sz="1400" spc="-1" strike="noStrike">
                <a:solidFill>
                  <a:srgbClr val="000033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33"/>
                </a:solidFill>
                <a:latin typeface="Courier New"/>
              </a:rPr>
              <a:t>Francia e taceva la Germania; a quel punto Lord Robertson, il Segretario generale della Nato,</a:t>
            </a:r>
            <a:r>
              <a:rPr b="1" lang="it-IT" sz="1400" spc="-1" strike="noStrike">
                <a:solidFill>
                  <a:srgbClr val="000033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33"/>
                </a:solidFill>
                <a:latin typeface="Courier New"/>
              </a:rPr>
              <a:t>tentava il grande colpo per chiudere finalmente, con una decisione sul sostegno alla Turch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19320" y="5638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tito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362320" y="55627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sottotito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91120" y="51055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paragraf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324480" y="563868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au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15000" y="51354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51055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linguagg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56386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argo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53080" y="52117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didasca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66680" y="5105520"/>
            <a:ext cx="6629400" cy="990360"/>
          </a:xfrm>
          <a:prstGeom prst="rect">
            <a:avLst/>
          </a:pr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48720" y="5410080"/>
            <a:ext cx="1143000" cy="307080"/>
          </a:xfrm>
          <a:prstGeom prst="rect">
            <a:avLst/>
          </a:pr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metate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29000" y="54100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punteggia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57913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aratte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7467480" y="762120"/>
            <a:ext cx="1524240" cy="12841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 rot="10800000">
            <a:off x="6324480" y="1143000"/>
            <a:ext cx="1067040" cy="914400"/>
          </a:xfrm>
          <a:custGeom>
            <a:avLst/>
            <a:gdLst>
              <a:gd name="textAreaLeft" fmla="*/ 355680 w 1067040"/>
              <a:gd name="textAreaRight" fmla="*/ 914040 w 1067040"/>
              <a:gd name="textAreaTop" fmla="*/ 526680 h 914400"/>
              <a:gd name="textAreaBottom" fmla="*/ 783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972120" y="3390840"/>
            <a:ext cx="2971800" cy="761760"/>
          </a:xfrm>
          <a:custGeom>
            <a:avLst/>
            <a:gdLst>
              <a:gd name="textAreaLeft" fmla="*/ 464400 w 2971800"/>
              <a:gd name="textAreaRight" fmla="*/ 2600640 w 29718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8001000" y="3352680"/>
            <a:ext cx="914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Testo e metatesto</a:t>
            </a:r>
            <a:br>
              <a:rPr sz="3200"/>
            </a:b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machine readable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2286000"/>
            <a:ext cx="6553440" cy="265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Courier New"/>
              </a:rPr>
              <a:t>Oggi a Bruxelles vertice della Ue sull'IRAQ. Blair scrive agli altri per chiedere una posizione com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9999"/>
                </a:solidFill>
                <a:latin typeface="Courier New"/>
              </a:rPr>
              <a:t>&lt;title&gt;</a:t>
            </a:r>
            <a:r>
              <a:rPr b="1" lang="it-IT" sz="1400" spc="-1" strike="noStrike">
                <a:solidFill>
                  <a:srgbClr val="000033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33"/>
                </a:solidFill>
                <a:latin typeface="Courier New"/>
              </a:rPr>
              <a:t>La NATO in difesa della Turchia</a:t>
            </a:r>
            <a:r>
              <a:rPr b="1" lang="it-IT" sz="1400" spc="-1" strike="noStrike">
                <a:solidFill>
                  <a:srgbClr val="000033"/>
                </a:solidFill>
                <a:latin typeface="Courier New"/>
              </a:rPr>
              <a:t> </a:t>
            </a:r>
            <a:r>
              <a:rPr b="1" lang="it-IT" sz="1400" spc="-1" strike="noStrike">
                <a:solidFill>
                  <a:srgbClr val="009999"/>
                </a:solidFill>
                <a:latin typeface="Courier New"/>
              </a:rPr>
              <a:t>&lt;/tit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9999"/>
                </a:solidFill>
                <a:latin typeface="Courier New"/>
              </a:rPr>
              <a:t>&lt;subtitle&gt;</a:t>
            </a:r>
            <a:r>
              <a:rPr b="1" lang="it-IT" sz="1400" spc="-1" strike="noStrike">
                <a:solidFill>
                  <a:srgbClr val="000033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33"/>
                </a:solidFill>
                <a:latin typeface="Courier New"/>
              </a:rPr>
              <a:t>Accordo in extremis sull'aiuto all' alleato in prima linea</a:t>
            </a:r>
            <a:r>
              <a:rPr b="1" lang="it-IT" sz="1400" spc="-1" strike="noStrike">
                <a:solidFill>
                  <a:srgbClr val="000033"/>
                </a:solidFill>
                <a:latin typeface="Courier New"/>
              </a:rPr>
              <a:t> </a:t>
            </a:r>
            <a:r>
              <a:rPr b="1" lang="it-IT" sz="1400" spc="-1" strike="noStrike">
                <a:solidFill>
                  <a:srgbClr val="009999"/>
                </a:solidFill>
                <a:latin typeface="Courier New"/>
              </a:rPr>
              <a:t>&lt;/subtit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Courier New"/>
              </a:rPr>
              <a:t>D</a:t>
            </a:r>
            <a:r>
              <a:rPr b="1" lang="en-US" sz="1400" spc="-1" strike="noStrike">
                <a:solidFill>
                  <a:srgbClr val="000033"/>
                </a:solidFill>
                <a:latin typeface="Courier New"/>
              </a:rPr>
              <a:t>AL NOSTRO CORRISPONDENTE </a:t>
            </a:r>
            <a:r>
              <a:rPr b="1" lang="it-IT" sz="1400" spc="-1" strike="noStrike">
                <a:solidFill>
                  <a:srgbClr val="009999"/>
                </a:solidFill>
                <a:latin typeface="Courier New"/>
              </a:rPr>
              <a:t>&lt;author&gt;</a:t>
            </a:r>
            <a:r>
              <a:rPr b="1" lang="it-IT" sz="1400" spc="-1" strike="noStrike">
                <a:solidFill>
                  <a:srgbClr val="000033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33"/>
                </a:solidFill>
                <a:latin typeface="Courier New"/>
              </a:rPr>
              <a:t>FRANCO PAPITTO</a:t>
            </a:r>
            <a:r>
              <a:rPr b="1" lang="it-IT" sz="1400" spc="-1" strike="noStrike">
                <a:solidFill>
                  <a:srgbClr val="000033"/>
                </a:solidFill>
                <a:latin typeface="Courier New"/>
              </a:rPr>
              <a:t> </a:t>
            </a:r>
            <a:r>
              <a:rPr b="1" lang="it-IT" sz="1400" spc="-1" strike="noStrike">
                <a:solidFill>
                  <a:srgbClr val="009999"/>
                </a:solidFill>
                <a:latin typeface="Courier New"/>
              </a:rPr>
              <a:t>&lt;/autho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9999"/>
                </a:solidFill>
                <a:latin typeface="Courier New"/>
              </a:rPr>
              <a:t>&lt;p&gt;</a:t>
            </a:r>
            <a:r>
              <a:rPr b="1" lang="it-IT" sz="1400" spc="-1" strike="noStrike">
                <a:solidFill>
                  <a:srgbClr val="000033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33"/>
                </a:solidFill>
                <a:latin typeface="Courier New"/>
              </a:rPr>
              <a:t>BRUXELLES — Tutti bloccati per una giornata intera dal piccolo Belgio.</a:t>
            </a:r>
            <a:r>
              <a:rPr b="1" lang="it-IT" sz="1400" spc="-1" strike="noStrike">
                <a:solidFill>
                  <a:srgbClr val="000033"/>
                </a:solidFill>
                <a:latin typeface="Courier New"/>
              </a:rPr>
              <a:t> </a:t>
            </a:r>
            <a:r>
              <a:rPr b="1" lang="it-IT" sz="1400" spc="-1" strike="noStrike">
                <a:solidFill>
                  <a:srgbClr val="009999"/>
                </a:solidFill>
                <a:latin typeface="Courier New"/>
              </a:rPr>
              <a:t>&lt;/p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9999"/>
                </a:solidFill>
                <a:latin typeface="Courier New"/>
              </a:rPr>
              <a:t>&lt;p&gt;</a:t>
            </a:r>
            <a:r>
              <a:rPr b="1" lang="it-IT" sz="1400" spc="-1" strike="noStrike">
                <a:solidFill>
                  <a:srgbClr val="000033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33"/>
                </a:solidFill>
                <a:latin typeface="Courier New"/>
              </a:rPr>
              <a:t>Sembrava disponibile la</a:t>
            </a:r>
            <a:r>
              <a:rPr b="1" lang="it-IT" sz="1400" spc="-1" strike="noStrike">
                <a:solidFill>
                  <a:srgbClr val="000033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33"/>
                </a:solidFill>
                <a:latin typeface="Courier New"/>
              </a:rPr>
              <a:t>Francia e taceva la Germania; a quel punto Lord Robertson, il Segretario generale della Nato,</a:t>
            </a:r>
            <a:r>
              <a:rPr b="1" lang="it-IT" sz="1400" spc="-1" strike="noStrike">
                <a:solidFill>
                  <a:srgbClr val="000033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33"/>
                </a:solidFill>
                <a:latin typeface="Courier New"/>
              </a:rPr>
              <a:t>tentava il grande colpo per chiudere finalmente, con una decisione sul sostegno alla Turchia</a:t>
            </a:r>
            <a:r>
              <a:rPr b="1" lang="it-IT" sz="1400" spc="-1" strike="noStrike">
                <a:solidFill>
                  <a:srgbClr val="000033"/>
                </a:solidFill>
                <a:latin typeface="Courier New"/>
              </a:rPr>
              <a:t> </a:t>
            </a:r>
            <a:r>
              <a:rPr b="1" lang="it-IT" sz="1400" spc="-1" strike="noStrike">
                <a:solidFill>
                  <a:srgbClr val="009999"/>
                </a:solidFill>
                <a:latin typeface="Courier New"/>
              </a:rPr>
              <a:t>&lt;/p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19320" y="5638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tito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62320" y="55627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sottotito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91120" y="51055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paragraf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324480" y="563868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au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15000" y="51354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57400" y="51055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linguagg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800600" y="56386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argo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117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didasca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66680" y="5105520"/>
            <a:ext cx="6629400" cy="990360"/>
          </a:xfrm>
          <a:prstGeom prst="rect">
            <a:avLst/>
          </a:pr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848720" y="5410080"/>
            <a:ext cx="1143000" cy="307080"/>
          </a:xfrm>
          <a:prstGeom prst="rect">
            <a:avLst/>
          </a:pr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metate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429000" y="54100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punteggia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33920" y="57913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aratte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7467480" y="762120"/>
            <a:ext cx="1524240" cy="12841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 rot="10800000">
            <a:off x="6324480" y="1143000"/>
            <a:ext cx="1067040" cy="914400"/>
          </a:xfrm>
          <a:custGeom>
            <a:avLst/>
            <a:gdLst>
              <a:gd name="textAreaLeft" fmla="*/ 355680 w 1067040"/>
              <a:gd name="textAreaRight" fmla="*/ 914040 w 1067040"/>
              <a:gd name="textAreaTop" fmla="*/ 526680 h 914400"/>
              <a:gd name="textAreaBottom" fmla="*/ 783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rot="5400000">
            <a:off x="6972120" y="3390840"/>
            <a:ext cx="2971800" cy="761760"/>
          </a:xfrm>
          <a:custGeom>
            <a:avLst/>
            <a:gdLst>
              <a:gd name="textAreaLeft" fmla="*/ 464400 w 2971800"/>
              <a:gd name="textAreaRight" fmla="*/ 2600640 w 29718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1447920" y="2895480"/>
            <a:ext cx="304560" cy="274320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895480" y="3428640"/>
            <a:ext cx="76320" cy="213372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3276360" y="3962160"/>
            <a:ext cx="1447560" cy="114300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4648320" y="3580920"/>
            <a:ext cx="2209680" cy="205740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Interpretazione e codifica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30412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lnSpc>
                <a:spcPct val="90000"/>
              </a:lnSpc>
              <a:spcBef>
                <a:spcPts val="3626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>
                <a:solidFill>
                  <a:srgbClr val="ffffff"/>
                </a:solidFill>
                <a:latin typeface="Arial"/>
              </a:rPr>
              <a:t>Interpretazione del testo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informazioni metatestuali che caratterizzano la struttura, contenuto, presentazione, natura linguistica, ecc. di un tes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esistono vari livelli e gradi di interpretazion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349"/>
              </a:spcBef>
              <a:buClr>
                <a:srgbClr val="ffcc99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tipografica, ortografica, extratestuale, linguistica, ecc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181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>
                <a:solidFill>
                  <a:srgbClr val="ffffff"/>
                </a:solidFill>
                <a:latin typeface="Arial"/>
              </a:rPr>
              <a:t>Codifica del testo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processo attraverso cui viene resa esplicita un’interpretazione del testo con l’assegnazione (al testo e alle sue parti) di codici metatestual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la codifica permette di rendere </a:t>
            </a:r>
            <a:r>
              <a:rPr b="0" lang="it-IT" sz="1600" spc="-1" strike="noStrike">
                <a:solidFill>
                  <a:srgbClr val="ff6600"/>
                </a:solidFill>
                <a:latin typeface="Arial"/>
              </a:rPr>
              <a:t>machine readable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informazioni sul testo e tratti del testo che altrimenti non sarebbero elaborabili dal compu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5334120"/>
            <a:ext cx="8229600" cy="101232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Arial"/>
              </a:rPr>
              <a:t>corpus = testi + codific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un corpus è un insieme di testi machine readable in cui l’informazione relativa ad una data interpretazione dei testi è stata esplicitamente codific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Cosa codificare?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lnSpc>
                <a:spcPct val="90000"/>
              </a:lnSpc>
              <a:spcBef>
                <a:spcPts val="3124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Arial"/>
              </a:rPr>
              <a:t>Informazione extra-testual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tipo del corpus e del tes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origine del tes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ollocazi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ommenti descrittivi sul contenu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reperibilità dell’origina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uto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asa editrice, edizione, ec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modalità di trascrizione (parlat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numero e identità dei partecipanti (parlat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3124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Arial"/>
              </a:rPr>
              <a:t>Informazione struttural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rticolazione del testo e delle sue par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349"/>
              </a:spcBef>
              <a:buClr>
                <a:srgbClr val="ffcc99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titoli, sottotitoli, sezioni, paragrafi, ecc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didascalie, figure, ec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Cosa codificare?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79992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3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</a:rPr>
              <a:t>Informazione ortografic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inguaggio del tes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odifica dei caratteri del tes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enomeni paralinguistici (parlat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ffcc99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pause, esitazioni, colpi di tosse, variazioni del tono di voce, ecc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spcBef>
                <a:spcPts val="3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</a:rPr>
              <a:t>Informazione linguistic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morfosintattica, sintattica, semantica, prosodica, pragmatica, ec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8360" y="5157720"/>
            <a:ext cx="81532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33"/>
                </a:solidFill>
                <a:latin typeface="Arial"/>
              </a:rPr>
              <a:t>La codifica esplicita di un testo con informazioni relative alla sua struttura linguistica viene detta </a:t>
            </a:r>
            <a:r>
              <a:rPr b="1" lang="it-IT" sz="1800" spc="-1" strike="noStrike">
                <a:solidFill>
                  <a:srgbClr val="ff6600"/>
                </a:solidFill>
                <a:latin typeface="Arial"/>
              </a:rPr>
              <a:t>annotazione del t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Corpora annotati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628280"/>
            <a:ext cx="8610480" cy="1266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190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Annotare un corpus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ggiungere ad un testo codici che rendono esplicita e “machine readable”  l’informazione relativa alla </a:t>
            </a:r>
            <a:r>
              <a:rPr b="1" lang="it-IT" sz="1800" spc="-1" strike="noStrike">
                <a:solidFill>
                  <a:srgbClr val="ff6600"/>
                </a:solidFill>
                <a:latin typeface="Arial"/>
              </a:rPr>
              <a:t>struttura linguistica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del test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3048120"/>
            <a:ext cx="86104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lnSpc>
                <a:spcPct val="100000"/>
              </a:lnSpc>
              <a:spcBef>
                <a:spcPts val="1125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Vari livelli di annotazione linguistic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876"/>
              </a:spcBef>
              <a:buClr>
                <a:srgbClr val="cc66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morfosintat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876"/>
              </a:spcBef>
              <a:buClr>
                <a:srgbClr val="cc66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lemmatizz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876"/>
              </a:spcBef>
              <a:buClr>
                <a:srgbClr val="cc66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sintat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876"/>
              </a:spcBef>
              <a:buClr>
                <a:srgbClr val="cc66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seman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876"/>
              </a:spcBef>
              <a:buClr>
                <a:srgbClr val="cc66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fonetica</a:t>
            </a: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(corpora di parlat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876"/>
              </a:spcBef>
              <a:buClr>
                <a:srgbClr val="cc66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rosodica</a:t>
            </a: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(corpora di parlat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876"/>
              </a:spcBef>
              <a:buClr>
                <a:srgbClr val="cc66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ragmatica</a:t>
            </a: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(corpora di parlat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876"/>
              </a:spcBef>
              <a:buClr>
                <a:srgbClr val="cc66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spcBef>
                <a:spcPts val="1125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 corpora non annotati vengono anche detti “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raw corpor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Perché annotare un corpus?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3041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I corpora annotati permettono di usare il computer per ricerche ed elaborazioni più avanzate dei dati linguistici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04920" y="2666880"/>
            <a:ext cx="8686800" cy="2012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Oggi a 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&lt;word sem=“</a:t>
            </a: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luogo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”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 Bruxelles 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&lt;/word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vertice della 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&lt;word sem=“</a:t>
            </a: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istituzione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”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 Ue 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&lt;/word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 sull‘ 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&lt;word sem=“</a:t>
            </a: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luogo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IRAQ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&lt;/word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&lt;word sem=“</a:t>
            </a: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persona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”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Blair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&lt;/word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&lt;word lemma=“scrivere” cat=“V”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scrive</a:t>
            </a: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&lt;/word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 agli altri per chiedere una posizione </a:t>
            </a: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&lt;word lemma=“comune” cat=“A”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comun</a:t>
            </a: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e</a:t>
            </a: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&lt;/wor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La 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&lt;word sem=“</a:t>
            </a: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istituzione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”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NATO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&lt;/word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 in </a:t>
            </a: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&lt;word lemma=“difesa” cat=“S”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difesa</a:t>
            </a: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&lt;/word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 della 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&lt;word sem=“</a:t>
            </a: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luogo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”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Turchia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&lt;/wor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&lt;word lemma=“accordo” cat=“S”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 Accordo</a:t>
            </a: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&lt;/word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 in extremis sull'aiuto all' alleato in prima lin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D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AL NOSTRO </a:t>
            </a: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&lt;word lemma=“corrispondente” cat=“S”&gt;</a:t>
            </a: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CORRISPONDENTE</a:t>
            </a: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&lt;/word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&lt;word lemma=“Franco” cat=“SP” sem=“persona”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 FRANCO</a:t>
            </a: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&lt;/word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 PAPIT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676520" y="5334120"/>
            <a:ext cx="884160" cy="9842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 rot="16200000">
            <a:off x="1904760" y="4952880"/>
            <a:ext cx="457200" cy="304920"/>
          </a:xfrm>
          <a:custGeom>
            <a:avLst/>
            <a:gdLst>
              <a:gd name="textAreaLeft" fmla="*/ 71280 w 457200"/>
              <a:gd name="textAreaRight" fmla="*/ 400320 w 4572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00400" y="4876920"/>
            <a:ext cx="3505320" cy="1448640"/>
          </a:xfrm>
          <a:prstGeom prst="rect">
            <a:avLst/>
          </a:pr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Ricerche p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6600"/>
                </a:solidFill>
                <a:latin typeface="Arial"/>
              </a:rPr>
              <a:t>lem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6600"/>
                </a:solidFill>
                <a:latin typeface="Arial"/>
              </a:rPr>
              <a:t>categoria morfosintat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6600"/>
                </a:solidFill>
                <a:latin typeface="Arial"/>
              </a:rPr>
              <a:t>categoria seman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Classi e Associazioni in UML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2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Class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0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ttributi (proprietà rilevant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spcBef>
                <a:spcPts val="349"/>
              </a:spcBef>
              <a:buClr>
                <a:srgbClr val="ffcc99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cardinalità dei valori degli attributi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spcBef>
                <a:spcPts val="1125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Associazion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0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ardinalità (delle classi associat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spcBef>
                <a:spcPts val="349"/>
              </a:spcBef>
              <a:buClr>
                <a:srgbClr val="ffcc99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minim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spcBef>
                <a:spcPts val="349"/>
              </a:spcBef>
              <a:buClr>
                <a:srgbClr val="ffcc99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massima (determina il tipo dell’associazione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0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NB: le associazioni non possono avere attribu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spcBef>
                <a:spcPts val="1125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Classi associativ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0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servono per esprimere attributi (proprietà) di un’associazi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81080" y="4876920"/>
            <a:ext cx="83844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Lib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57800" y="4876920"/>
            <a:ext cx="12193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CasaEditr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" name=""/>
          <p:cNvCxnSpPr>
            <a:stCxn id="87" idx="3"/>
            <a:endCxn id="88" idx="1"/>
          </p:cNvCxnSpPr>
          <p:nvPr/>
        </p:nvCxnSpPr>
        <p:spPr>
          <a:xfrm>
            <a:off x="2833560" y="5181120"/>
            <a:ext cx="2410560" cy="1080"/>
          </a:xfrm>
          <a:prstGeom prst="straightConnector1">
            <a:avLst/>
          </a:prstGeom>
          <a:ln w="28440">
            <a:solidFill>
              <a:srgbClr val="99cc00"/>
            </a:solidFill>
            <a:miter/>
          </a:ln>
        </p:spPr>
      </p:cxnSp>
      <p:sp>
        <p:nvSpPr>
          <p:cNvPr id="90" name=""/>
          <p:cNvSpPr/>
          <p:nvPr/>
        </p:nvSpPr>
        <p:spPr>
          <a:xfrm>
            <a:off x="2971800" y="48769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0…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48769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5638680"/>
            <a:ext cx="1295280" cy="762120"/>
          </a:xfrm>
          <a:prstGeom prst="rect">
            <a:avLst/>
          </a:prstGeom>
          <a:solidFill>
            <a:srgbClr val="ffffff"/>
          </a:solidFill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Pubblic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6019920"/>
            <a:ext cx="129528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962520" y="5181480"/>
            <a:ext cx="0" cy="457200"/>
          </a:xfrm>
          <a:prstGeom prst="line">
            <a:avLst/>
          </a:prstGeom>
          <a:ln w="2844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Interpretazione del Testo e Basi di Dati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792144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Gestione di testi digitali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esto inserito in un DB relazion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ffcc99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articolazione del test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Metadati testua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ffcc99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associati al testo nel D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Annotazioni del tes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71800" y="4267080"/>
            <a:ext cx="327672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666880" y="396252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te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76720" y="4343400"/>
            <a:ext cx="2743200" cy="7621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Fras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76720" y="5486400"/>
            <a:ext cx="2743200" cy="7621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Frase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52680" y="4724280"/>
            <a:ext cx="914400" cy="3070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token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952880" y="4724280"/>
            <a:ext cx="914400" cy="3070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token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19720" y="48006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352680" y="5857920"/>
            <a:ext cx="914400" cy="3070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token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52880" y="5857920"/>
            <a:ext cx="914400" cy="3070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token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419720" y="58672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00400" y="5181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480" y="4724280"/>
            <a:ext cx="15242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Au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Colloc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Pubblic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8600" y="44197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metada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300" idx="3"/>
            <a:endCxn id="289" idx="1"/>
          </p:cNvCxnSpPr>
          <p:nvPr/>
        </p:nvCxnSpPr>
        <p:spPr>
          <a:xfrm>
            <a:off x="2133720" y="5295600"/>
            <a:ext cx="838800" cy="10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303" name=""/>
          <p:cNvSpPr/>
          <p:nvPr/>
        </p:nvSpPr>
        <p:spPr>
          <a:xfrm>
            <a:off x="7238880" y="4267080"/>
            <a:ext cx="152424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43800" y="4419720"/>
            <a:ext cx="914400" cy="3070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lemm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43800" y="4876920"/>
            <a:ext cx="914400" cy="3070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lemma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67480" y="5181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543800" y="5629320"/>
            <a:ext cx="914400" cy="3070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lemma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34320" y="396252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anno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9" name=""/>
          <p:cNvCxnSpPr>
            <a:stCxn id="294" idx="3"/>
            <a:endCxn id="307" idx="1"/>
          </p:cNvCxnSpPr>
          <p:nvPr/>
        </p:nvCxnSpPr>
        <p:spPr>
          <a:xfrm>
            <a:off x="5866920" y="4881240"/>
            <a:ext cx="1677240" cy="90540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310" name=""/>
          <p:cNvCxnSpPr>
            <a:stCxn id="297" idx="3"/>
            <a:endCxn id="305" idx="1"/>
          </p:cNvCxnSpPr>
          <p:nvPr/>
        </p:nvCxnSpPr>
        <p:spPr>
          <a:xfrm flipV="1">
            <a:off x="5866920" y="5033160"/>
            <a:ext cx="1677240" cy="98172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296" idx="2"/>
            <a:endCxn id="307" idx="2"/>
          </p:cNvCxnSpPr>
          <p:nvPr/>
        </p:nvCxnSpPr>
        <p:spPr>
          <a:xfrm flipH="1" flipV="1" rot="5400000">
            <a:off x="5790960" y="3961800"/>
            <a:ext cx="229320" cy="4191840"/>
          </a:xfrm>
          <a:prstGeom prst="bentConnector3">
            <a:avLst>
              <a:gd name="adj1" fmla="val -100000"/>
            </a:avLst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5562720" y="2819520"/>
            <a:ext cx="2819160" cy="10360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6600"/>
                </a:solidFill>
                <a:latin typeface="Arial"/>
              </a:rPr>
              <a:t>Token </a:t>
            </a:r>
            <a:r>
              <a:rPr b="1" i="1" lang="it-IT" sz="1600" spc="-1" strike="noStrike">
                <a:solidFill>
                  <a:srgbClr val="ff6600"/>
                </a:solidFill>
                <a:latin typeface="Arial"/>
              </a:rPr>
              <a:t>vs.</a:t>
            </a:r>
            <a:r>
              <a:rPr b="1" lang="it-IT" sz="1600" spc="-1" strike="noStrike">
                <a:solidFill>
                  <a:srgbClr val="ff6600"/>
                </a:solidFill>
                <a:latin typeface="Arial"/>
              </a:rPr>
              <a:t>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ffffff"/>
                </a:solidFill>
                <a:latin typeface="Arial"/>
              </a:rPr>
              <a:t>il cane mangia il to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Arial"/>
              </a:rPr>
              <a:t>5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tok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Arial"/>
              </a:rPr>
              <a:t>4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types (</a:t>
            </a:r>
            <a:r>
              <a:rPr b="1" i="1" lang="it-IT" sz="1200" spc="-1" strike="noStrike">
                <a:solidFill>
                  <a:srgbClr val="ffffff"/>
                </a:solidFill>
                <a:latin typeface="Arial"/>
              </a:rPr>
              <a:t>il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it-IT" sz="1200" spc="-1" strike="noStrike">
                <a:solidFill>
                  <a:srgbClr val="ffffff"/>
                </a:solidFill>
                <a:latin typeface="Arial"/>
              </a:rPr>
              <a:t>cane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it-IT" sz="1200" spc="-1" strike="noStrike">
                <a:solidFill>
                  <a:srgbClr val="ffffff"/>
                </a:solidFill>
                <a:latin typeface="Arial"/>
              </a:rPr>
              <a:t>mangi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it-IT" sz="1200" spc="-1" strike="noStrike">
                <a:solidFill>
                  <a:srgbClr val="ffffff"/>
                </a:solidFill>
                <a:latin typeface="Arial"/>
              </a:rPr>
              <a:t>topo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410080" y="3200400"/>
            <a:ext cx="3048120" cy="3124080"/>
          </a:xfrm>
          <a:prstGeom prst="ellipse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3124080"/>
            <a:ext cx="3048120" cy="312444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Associazioni (Relazioni)</a:t>
            </a:r>
            <a:br>
              <a:rPr sz="3200"/>
            </a:b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molti-a-molti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411480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66880" y="51814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365760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54100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72200" y="35812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0120" y="54100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43800" y="42670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57150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9" idx="6"/>
            <a:endCxn id="102" idx="1"/>
          </p:cNvCxnSpPr>
          <p:nvPr/>
        </p:nvCxnSpPr>
        <p:spPr>
          <a:xfrm flipV="1">
            <a:off x="2895120" y="3614400"/>
            <a:ext cx="3310920" cy="1681920"/>
          </a:xfrm>
          <a:prstGeom prst="curvedConnector5">
            <a:avLst>
              <a:gd name="adj1" fmla="val 49488"/>
              <a:gd name="adj2" fmla="val 57782"/>
              <a:gd name="adj3" fmla="val 49488"/>
            </a:avLst>
          </a:prstGeom>
          <a:ln w="28440">
            <a:solidFill>
              <a:srgbClr val="99cc00"/>
            </a:solidFill>
            <a:miter/>
          </a:ln>
        </p:spPr>
      </p:cxnSp>
      <p:cxnSp>
        <p:nvCxnSpPr>
          <p:cNvPr id="107" name=""/>
          <p:cNvCxnSpPr>
            <a:stCxn id="99" idx="4"/>
            <a:endCxn id="105" idx="2"/>
          </p:cNvCxnSpPr>
          <p:nvPr/>
        </p:nvCxnSpPr>
        <p:spPr>
          <a:xfrm flipH="1" rot="16200000">
            <a:off x="4419360" y="3771360"/>
            <a:ext cx="420120" cy="3696480"/>
          </a:xfrm>
          <a:prstGeom prst="curvedConnector2">
            <a:avLst/>
          </a:prstGeom>
          <a:ln w="28440">
            <a:solidFill>
              <a:srgbClr val="99cc00"/>
            </a:solidFill>
            <a:miter/>
          </a:ln>
        </p:spPr>
      </p:cxnSp>
      <p:cxnSp>
        <p:nvCxnSpPr>
          <p:cNvPr id="108" name=""/>
          <p:cNvCxnSpPr>
            <a:stCxn id="100" idx="5"/>
            <a:endCxn id="105" idx="7"/>
          </p:cNvCxnSpPr>
          <p:nvPr/>
        </p:nvCxnSpPr>
        <p:spPr>
          <a:xfrm flipH="1" rot="16200000">
            <a:off x="3818520" y="2895480"/>
            <a:ext cx="1896480" cy="381060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28440">
            <a:solidFill>
              <a:srgbClr val="99cc00"/>
            </a:solidFill>
            <a:miter/>
          </a:ln>
        </p:spPr>
      </p:cxnSp>
      <p:cxnSp>
        <p:nvCxnSpPr>
          <p:cNvPr id="109" name=""/>
          <p:cNvCxnSpPr>
            <a:stCxn id="99" idx="6"/>
            <a:endCxn id="104" idx="3"/>
          </p:cNvCxnSpPr>
          <p:nvPr/>
        </p:nvCxnSpPr>
        <p:spPr>
          <a:xfrm flipV="1">
            <a:off x="2895120" y="4461840"/>
            <a:ext cx="4682520" cy="834120"/>
          </a:xfrm>
          <a:prstGeom prst="curvedConnector2">
            <a:avLst/>
          </a:prstGeom>
          <a:ln w="28440">
            <a:solidFill>
              <a:srgbClr val="99cc00"/>
            </a:solidFill>
            <a:miter/>
          </a:ln>
        </p:spPr>
      </p:cxnSp>
      <p:sp>
        <p:nvSpPr>
          <p:cNvPr id="110" name=""/>
          <p:cNvSpPr/>
          <p:nvPr/>
        </p:nvSpPr>
        <p:spPr>
          <a:xfrm>
            <a:off x="2438280" y="1981080"/>
            <a:ext cx="838440" cy="838440"/>
          </a:xfrm>
          <a:prstGeom prst="rect">
            <a:avLst/>
          </a:prstGeom>
          <a:solidFill>
            <a:srgbClr val="ffffff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38280" y="2286000"/>
            <a:ext cx="83844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15000" y="1981080"/>
            <a:ext cx="838080" cy="838440"/>
          </a:xfrm>
          <a:prstGeom prst="rect">
            <a:avLst/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15000" y="2286000"/>
            <a:ext cx="838080" cy="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0" idx="3"/>
            <a:endCxn id="112" idx="1"/>
          </p:cNvCxnSpPr>
          <p:nvPr/>
        </p:nvCxnSpPr>
        <p:spPr>
          <a:xfrm>
            <a:off x="3290760" y="2400120"/>
            <a:ext cx="2410560" cy="1080"/>
          </a:xfrm>
          <a:prstGeom prst="straightConnector1">
            <a:avLst/>
          </a:prstGeom>
          <a:ln w="28440">
            <a:solidFill>
              <a:srgbClr val="99cc00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3429000" y="20574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0…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05520" y="20574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0…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410080" y="3200400"/>
            <a:ext cx="3048120" cy="3124080"/>
          </a:xfrm>
          <a:prstGeom prst="ellipse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124080"/>
            <a:ext cx="3048120" cy="312444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Associazioni (Relazioni)</a:t>
            </a:r>
            <a:br>
              <a:rPr sz="3200"/>
            </a:b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uno-a-molti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411480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66880" y="51814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66880" y="365760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54100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72200" y="35812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0120" y="54100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43800" y="42670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57150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1" idx="6"/>
            <a:endCxn id="124" idx="1"/>
          </p:cNvCxnSpPr>
          <p:nvPr/>
        </p:nvCxnSpPr>
        <p:spPr>
          <a:xfrm flipV="1">
            <a:off x="2895120" y="3614400"/>
            <a:ext cx="3310920" cy="1681920"/>
          </a:xfrm>
          <a:prstGeom prst="curvedConnector5">
            <a:avLst>
              <a:gd name="adj1" fmla="val 49488"/>
              <a:gd name="adj2" fmla="val 57782"/>
              <a:gd name="adj3" fmla="val 49488"/>
            </a:avLst>
          </a:prstGeom>
          <a:ln w="28440">
            <a:solidFill>
              <a:srgbClr val="99cc00"/>
            </a:solidFill>
            <a:miter/>
          </a:ln>
        </p:spPr>
      </p:cxnSp>
      <p:cxnSp>
        <p:nvCxnSpPr>
          <p:cNvPr id="129" name=""/>
          <p:cNvCxnSpPr>
            <a:stCxn id="121" idx="4"/>
            <a:endCxn id="127" idx="2"/>
          </p:cNvCxnSpPr>
          <p:nvPr/>
        </p:nvCxnSpPr>
        <p:spPr>
          <a:xfrm flipH="1" rot="16200000">
            <a:off x="4419360" y="3771360"/>
            <a:ext cx="420120" cy="3696480"/>
          </a:xfrm>
          <a:prstGeom prst="curvedConnector2">
            <a:avLst/>
          </a:prstGeom>
          <a:ln w="28440">
            <a:solidFill>
              <a:srgbClr val="99cc00"/>
            </a:solidFill>
            <a:miter/>
          </a:ln>
        </p:spPr>
      </p:cxnSp>
      <p:cxnSp>
        <p:nvCxnSpPr>
          <p:cNvPr id="130" name=""/>
          <p:cNvCxnSpPr>
            <a:stCxn id="121" idx="6"/>
            <a:endCxn id="126" idx="3"/>
          </p:cNvCxnSpPr>
          <p:nvPr/>
        </p:nvCxnSpPr>
        <p:spPr>
          <a:xfrm flipV="1">
            <a:off x="2895120" y="4461840"/>
            <a:ext cx="4682520" cy="834120"/>
          </a:xfrm>
          <a:prstGeom prst="curvedConnector2">
            <a:avLst/>
          </a:prstGeom>
          <a:ln w="28440">
            <a:solidFill>
              <a:srgbClr val="99cc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2438280" y="1981080"/>
            <a:ext cx="838440" cy="838440"/>
          </a:xfrm>
          <a:prstGeom prst="rect">
            <a:avLst/>
          </a:prstGeom>
          <a:solidFill>
            <a:srgbClr val="ffffff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38280" y="2286000"/>
            <a:ext cx="83844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15000" y="1981080"/>
            <a:ext cx="838080" cy="838440"/>
          </a:xfrm>
          <a:prstGeom prst="rect">
            <a:avLst/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15000" y="2286000"/>
            <a:ext cx="838080" cy="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31" idx="3"/>
            <a:endCxn id="133" idx="1"/>
          </p:cNvCxnSpPr>
          <p:nvPr/>
        </p:nvCxnSpPr>
        <p:spPr>
          <a:xfrm>
            <a:off x="3290760" y="2400120"/>
            <a:ext cx="2410560" cy="1080"/>
          </a:xfrm>
          <a:prstGeom prst="straightConnector1">
            <a:avLst/>
          </a:prstGeom>
          <a:ln w="28440">
            <a:solidFill>
              <a:srgbClr val="99cc00"/>
            </a:solidFill>
            <a:miter/>
          </a:ln>
        </p:spPr>
      </p:cxnSp>
      <p:sp>
        <p:nvSpPr>
          <p:cNvPr id="136" name=""/>
          <p:cNvSpPr/>
          <p:nvPr/>
        </p:nvSpPr>
        <p:spPr>
          <a:xfrm>
            <a:off x="3429000" y="20574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0…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05520" y="20574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0…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22" idx="5"/>
            <a:endCxn id="125" idx="0"/>
          </p:cNvCxnSpPr>
          <p:nvPr/>
        </p:nvCxnSpPr>
        <p:spPr>
          <a:xfrm flipH="1" rot="16200000">
            <a:off x="4518720" y="2195280"/>
            <a:ext cx="1558080" cy="4872600"/>
          </a:xfrm>
          <a:prstGeom prst="curvedConnector5">
            <a:avLst>
              <a:gd name="adj1" fmla="val 51051"/>
              <a:gd name="adj2" fmla="val 50000"/>
              <a:gd name="adj3" fmla="val 51051"/>
            </a:avLst>
          </a:prstGeom>
          <a:ln w="28440">
            <a:solidFill>
              <a:srgbClr val="99cc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410080" y="3200400"/>
            <a:ext cx="3048120" cy="3124080"/>
          </a:xfrm>
          <a:prstGeom prst="ellipse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3124080"/>
            <a:ext cx="3048120" cy="312444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Associazioni (Relazioni)</a:t>
            </a:r>
            <a:br>
              <a:rPr sz="3200"/>
            </a:b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uno-a-molti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411480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51814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365760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54100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72200" y="35812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0120" y="54100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43800" y="42670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77120" y="57150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3" idx="4"/>
            <a:endCxn id="149" idx="2"/>
          </p:cNvCxnSpPr>
          <p:nvPr/>
        </p:nvCxnSpPr>
        <p:spPr>
          <a:xfrm flipH="1" rot="16200000">
            <a:off x="4419360" y="3771360"/>
            <a:ext cx="420120" cy="3696480"/>
          </a:xfrm>
          <a:prstGeom prst="curvedConnector2">
            <a:avLst/>
          </a:prstGeom>
          <a:ln w="28440">
            <a:solidFill>
              <a:srgbClr val="99cc00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2438280" y="1981080"/>
            <a:ext cx="838440" cy="838440"/>
          </a:xfrm>
          <a:prstGeom prst="rect">
            <a:avLst/>
          </a:prstGeom>
          <a:solidFill>
            <a:srgbClr val="ffffff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2286000"/>
            <a:ext cx="83844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15000" y="1981080"/>
            <a:ext cx="838080" cy="838440"/>
          </a:xfrm>
          <a:prstGeom prst="rect">
            <a:avLst/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15000" y="2286000"/>
            <a:ext cx="838080" cy="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1" idx="3"/>
            <a:endCxn id="153" idx="1"/>
          </p:cNvCxnSpPr>
          <p:nvPr/>
        </p:nvCxnSpPr>
        <p:spPr>
          <a:xfrm>
            <a:off x="3290760" y="2400120"/>
            <a:ext cx="2410560" cy="1080"/>
          </a:xfrm>
          <a:prstGeom prst="straightConnector1">
            <a:avLst/>
          </a:prstGeom>
          <a:ln w="28440">
            <a:solidFill>
              <a:srgbClr val="99cc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3429000" y="20574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0…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05520" y="20574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0…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"/>
          <p:cNvCxnSpPr/>
          <p:nvPr/>
        </p:nvCxnSpPr>
        <p:spPr>
          <a:xfrm flipH="1" rot="16200000">
            <a:off x="4552920" y="2228760"/>
            <a:ext cx="1558080" cy="4872600"/>
          </a:xfrm>
          <a:prstGeom prst="curvedConnector5">
            <a:avLst>
              <a:gd name="adj1" fmla="val 51051"/>
              <a:gd name="adj2" fmla="val 50000"/>
              <a:gd name="adj3" fmla="val 51051"/>
            </a:avLst>
          </a:prstGeom>
          <a:ln w="28440">
            <a:solidFill>
              <a:srgbClr val="99cc00"/>
            </a:solidFill>
            <a:miter/>
          </a:ln>
        </p:spPr>
      </p:cxnSp>
      <p:cxnSp>
        <p:nvCxnSpPr>
          <p:cNvPr id="159" name=""/>
          <p:cNvCxnSpPr>
            <a:stCxn id="147" idx="2"/>
            <a:endCxn id="142" idx="5"/>
          </p:cNvCxnSpPr>
          <p:nvPr/>
        </p:nvCxnSpPr>
        <p:spPr>
          <a:xfrm rot="10800000">
            <a:off x="1718640" y="4309200"/>
            <a:ext cx="5901480" cy="1215360"/>
          </a:xfrm>
          <a:prstGeom prst="curvedConnector2">
            <a:avLst/>
          </a:prstGeom>
          <a:ln w="28440">
            <a:solidFill>
              <a:srgbClr val="99cc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410080" y="3200400"/>
            <a:ext cx="3048120" cy="3124080"/>
          </a:xfrm>
          <a:prstGeom prst="ellipse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3124080"/>
            <a:ext cx="3048120" cy="312444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Associazioni (Relazioni)</a:t>
            </a:r>
            <a:br>
              <a:rPr sz="3200"/>
            </a:b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uno-a-uno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63" name=""/>
          <p:cNvSpPr/>
          <p:nvPr/>
        </p:nvSpPr>
        <p:spPr>
          <a:xfrm>
            <a:off x="1523880" y="411480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51814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66880" y="365760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54100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72200" y="35812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54100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43800" y="42670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57150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4" idx="4"/>
            <a:endCxn id="170" idx="2"/>
          </p:cNvCxnSpPr>
          <p:nvPr/>
        </p:nvCxnSpPr>
        <p:spPr>
          <a:xfrm flipH="1" rot="16200000">
            <a:off x="4419360" y="3771360"/>
            <a:ext cx="420120" cy="3696480"/>
          </a:xfrm>
          <a:prstGeom prst="curvedConnector2">
            <a:avLst/>
          </a:prstGeom>
          <a:ln w="28440">
            <a:solidFill>
              <a:srgbClr val="99cc00"/>
            </a:solidFill>
            <a:miter/>
          </a:ln>
        </p:spPr>
      </p:cxnSp>
      <p:sp>
        <p:nvSpPr>
          <p:cNvPr id="172" name=""/>
          <p:cNvSpPr/>
          <p:nvPr/>
        </p:nvSpPr>
        <p:spPr>
          <a:xfrm>
            <a:off x="2438280" y="1981080"/>
            <a:ext cx="838440" cy="838440"/>
          </a:xfrm>
          <a:prstGeom prst="rect">
            <a:avLst/>
          </a:prstGeom>
          <a:solidFill>
            <a:srgbClr val="ffffff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38280" y="2286000"/>
            <a:ext cx="83844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15000" y="1981080"/>
            <a:ext cx="838080" cy="838440"/>
          </a:xfrm>
          <a:prstGeom prst="rect">
            <a:avLst/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15000" y="2286000"/>
            <a:ext cx="838080" cy="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72" idx="3"/>
            <a:endCxn id="174" idx="1"/>
          </p:cNvCxnSpPr>
          <p:nvPr/>
        </p:nvCxnSpPr>
        <p:spPr>
          <a:xfrm>
            <a:off x="3290760" y="2400120"/>
            <a:ext cx="2410560" cy="1080"/>
          </a:xfrm>
          <a:prstGeom prst="straightConnector1">
            <a:avLst/>
          </a:prstGeom>
          <a:ln w="28440">
            <a:solidFill>
              <a:srgbClr val="99cc00"/>
            </a:solidFill>
            <a:miter/>
          </a:ln>
        </p:spPr>
      </p:cxnSp>
      <p:sp>
        <p:nvSpPr>
          <p:cNvPr id="177" name=""/>
          <p:cNvSpPr/>
          <p:nvPr/>
        </p:nvSpPr>
        <p:spPr>
          <a:xfrm>
            <a:off x="3429000" y="20574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0…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20574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0…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65" idx="5"/>
            <a:endCxn id="169" idx="1"/>
          </p:cNvCxnSpPr>
          <p:nvPr/>
        </p:nvCxnSpPr>
        <p:spPr>
          <a:xfrm flipH="1" rot="16200000">
            <a:off x="4995000" y="1719000"/>
            <a:ext cx="448560" cy="4715640"/>
          </a:xfrm>
          <a:prstGeom prst="curvedConnector5">
            <a:avLst>
              <a:gd name="adj1" fmla="val 49959"/>
              <a:gd name="adj2" fmla="val 50000"/>
              <a:gd name="adj3" fmla="val 49959"/>
            </a:avLst>
          </a:prstGeom>
          <a:ln w="28440">
            <a:solidFill>
              <a:srgbClr val="99cc00"/>
            </a:solidFill>
            <a:miter/>
          </a:ln>
        </p:spPr>
      </p:cxnSp>
      <p:cxnSp>
        <p:nvCxnSpPr>
          <p:cNvPr id="180" name=""/>
          <p:cNvCxnSpPr>
            <a:stCxn id="168" idx="2"/>
            <a:endCxn id="163" idx="5"/>
          </p:cNvCxnSpPr>
          <p:nvPr/>
        </p:nvCxnSpPr>
        <p:spPr>
          <a:xfrm rot="10800000">
            <a:off x="1718640" y="4309200"/>
            <a:ext cx="5901480" cy="1215360"/>
          </a:xfrm>
          <a:prstGeom prst="curvedConnector2">
            <a:avLst/>
          </a:prstGeom>
          <a:ln w="28440">
            <a:solidFill>
              <a:srgbClr val="99cc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Traduzione delle Associazioni Molti-a-Molti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Ogni associazione molti a molti genera una tabell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riferimenti (chiavi esterne) alle tabelle che traducono le classi coinvol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ventuali attributi dell’associazi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la chiave della tabella deve includere le chiavi ester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295280" y="3657600"/>
            <a:ext cx="6782040" cy="11700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7086600" y="5257800"/>
            <a:ext cx="1752480" cy="8398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533520" y="5029200"/>
            <a:ext cx="1447560" cy="7016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3124080" y="5105520"/>
            <a:ext cx="2590920" cy="9604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5562720"/>
            <a:ext cx="1981080" cy="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5715000"/>
            <a:ext cx="266724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Traduzione delle Associazioni Uno-a-Molti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Generano chiavi estern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iascuna istanza dell’associazione è identificata dall’oggetto dal lato </a:t>
            </a: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hiave esterna della tabella dal lato </a:t>
            </a: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nella tabella corrispondente alla classe dal lato </a:t>
            </a: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905120" y="3505320"/>
            <a:ext cx="5943600" cy="110484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638680" y="5257800"/>
            <a:ext cx="1447920" cy="701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1828800" y="4876920"/>
            <a:ext cx="1600200" cy="1081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743200" y="5791320"/>
            <a:ext cx="289548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5638680"/>
            <a:ext cx="1295280" cy="38124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Traduzione delle Associazioni Uno-a-Uno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Discorso simile a quelle uno-a-molti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posso scegliere dove mettere la chiave ester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i preferisce un lato in cui la card. min. è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362320" y="3200400"/>
            <a:ext cx="4343400" cy="9810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600200" y="5029200"/>
            <a:ext cx="1752480" cy="10191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5715000" y="4648320"/>
            <a:ext cx="1295280" cy="10141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133720" y="5486400"/>
            <a:ext cx="3581280" cy="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62720" y="5334120"/>
            <a:ext cx="1295280" cy="38088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9T08:39:40Z</dcterms:created>
  <dc:creator>Alessandro Lenci</dc:creator>
  <dc:description/>
  <dc:language>en-US</dc:language>
  <cp:lastModifiedBy>Alessandro Lenci</cp:lastModifiedBy>
  <dcterms:modified xsi:type="dcterms:W3CDTF">2007-12-13T20:58:19Z</dcterms:modified>
  <cp:revision>33</cp:revision>
  <dc:subject/>
  <dc:title>Informatica per le Scienze Umane laboratorio</dc:title>
</cp:coreProperties>
</file>